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33F-3CDB-4A55-BB65-08DCB3DB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42F-E8DF-40FA-85D0-973F365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DC3-52D0-4117-808D-3E8B71DB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2F0-E3F4-4A52-A6C4-BF653C49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C2D3-B1A1-4926-9611-BDEA3F43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2861-97A4-423B-AC5B-1EAE9CF4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A4A2-5662-45E2-9E6D-9AD115A4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6384-B425-4B58-AC4D-08B2CFA2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ED3D-BE1C-4004-AF79-2C65450B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221C-F545-459B-B76A-5E9EC678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4A8-DE49-4850-8528-8049620D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9D0-156B-41C8-86CB-5BEF0CD4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4640-2081-460B-B647-0F8AB1D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BCCF-BD8F-4EB9-BBD7-3DA0C0F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7149-41F4-4D21-AFB3-8AA8EE8D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E660-DB4E-408C-B22B-9F89E60D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6EFA-FDF6-46D4-885B-F134F3E6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E30-9C59-4DBF-A944-407B9D4A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C12-6AC2-4D69-B03F-CD15DD4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7ED-28D3-4F4A-8C97-E2F0AD0D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B5D-058A-42C1-BD22-ACBD7F5F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D8E-9E92-4572-A1D6-37086201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AFE-3BD1-45C9-BC11-F6E81466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2F8-C3F0-48D1-B207-4E303842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48A-E21D-4604-9ACD-5A667B2A7A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B25-8B8A-4C8E-9650-26751D05F9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ill There Was No Remedy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(The Divided Kingdom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rter 6, Lesson 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g.86-8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hron.25; 2 Kings 13:20 – 14: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574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09680" y="228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re We Are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8380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0199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048120"/>
            <a:ext cx="304560" cy="12189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8672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ces to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057400"/>
            <a:ext cx="2895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ah and Isra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Amaz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s an expedition agaist Edom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 Chron.25: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00,000 chosen men for w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res additional 100,000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missed after a man of God warn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reak havoc in Jud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ead man comes to life (2 Kgs.13:20-2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Jo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eats the Syrians three times (23-2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vers Israelite towns taken by Hazael &amp; Be-ha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ah and Isra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Amaz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efeating the Edomit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adopts the Edomite god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2 Chron.25:14-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asks W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rned of wrath to c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66"/>
                </a:solidFill>
                <a:uFillTx/>
                <a:latin typeface="Tahoma"/>
              </a:rPr>
              <a:t>Jo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r Between Amaziah &amp; Jo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r Between Amaziah and Joas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gs.14:8-14; 2 Chron.25:17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ash defeated Amaziah &amp; Jud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much silver &amp; gold from Jerusa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e down a section of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aziah is captured &amp; forced to pay heavy tribute to 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rrors of Amazi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aganism – 2 Chron.25:14-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pride – 17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ing in his punishment – 21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eroboam (II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1 evil years to reign over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20:34:14Z</dcterms:created>
  <dc:creator> Tab Vines</dc:creator>
  <dc:description/>
  <dc:language>en-US</dc:language>
  <cp:lastModifiedBy> Tab Vines</cp:lastModifiedBy>
  <dcterms:modified xsi:type="dcterms:W3CDTF">2005-09-16T21:20:01Z</dcterms:modified>
  <cp:revision>4</cp:revision>
  <dc:subject/>
  <dc:title>Till There Was No Remedy (The Divided Kingdom)</dc:title>
</cp:coreProperties>
</file>